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9C4-F5B5-44B6-AD50-750F1372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E23-F698-4090-930A-14A310F2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575-E415-4599-BAF3-588BA7B5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2A5-1052-4B7A-92F7-3555CDFE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A58-D895-4DE9-A2D6-630E8C45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2BF-398C-4FB0-8EDE-125F6A8E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760-DF22-4330-9842-F0F2A24F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C5D-587C-45D3-A6C5-AED7D368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96F-970D-4A6E-9985-4792CEFC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A04-E074-4EFA-8820-9456E7ED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3B5-9469-4B9E-A9F4-0DB34B0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742-89C6-4E9E-996B-53D172D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6D9A-4E88-4F2A-8B0A-DC14E4C3FF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月も引続き売上予算を達成し、順調に推移してきている。下期では上期と比較し、全体の業績が改善してきていると見受けられ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222880"/>
          </a:xfrm>
          <a:prstGeom prst="rect">
            <a:avLst/>
          </a:prstGeom>
          <a:ln w="0">
            <a:noFill/>
          </a:ln>
        </p:spPr>
      </p:pic>
      <p:sp>
        <p:nvSpPr>
          <p:cNvPr id="43" name="直線コネクタ 5"/>
          <p:cNvSpPr/>
          <p:nvPr/>
        </p:nvSpPr>
        <p:spPr>
          <a:xfrm flipH="1">
            <a:off x="1258920" y="3270240"/>
            <a:ext cx="6842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5:34:49Z</dcterms:created>
  <dc:creator>Gihyo</dc:creator>
  <dc:description/>
  <dc:language>en-US</dc:language>
  <cp:lastModifiedBy>Gihyo</cp:lastModifiedBy>
  <dcterms:modified xsi:type="dcterms:W3CDTF">2010-09-14T03:41:17Z</dcterms:modified>
  <cp:revision>2</cp:revision>
  <dc:subject/>
  <dc:title>11月も引続き売上予算を達成し、順調に推移してきている。下期では上期と比較し、全体の業績が改善してきていると見受けられる</dc:title>
</cp:coreProperties>
</file>