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F243-6E8D-49F6-854E-90FE2199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54A-6DAD-4DA5-BC3E-F262A5DB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6E67-5B71-4684-A262-44476544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6C2-B30C-4D3F-8B97-91AB3338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52D-DA05-46C8-B7FC-82AD5624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0C1-E025-44F2-911E-712E2DA6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430-F8B3-40F1-B17C-E60948A0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B43-35E6-4C89-ABA0-FE2FF365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6A0-7C4F-4512-ADEF-76554105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BC0-3406-4470-9275-AF6A8BEB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D2F-8790-4DA3-B235-7613E47A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282-5734-45D3-9D3E-3A7536F5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C0BE-C99E-4EC6-A10D-340DD11568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来年は暖冬傾向が示されているため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3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月におい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「スイート」は販売の減少が、「ビター」は販売の増加が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予測されることがわかった。この分析結果を踏まえ、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初期生産量を、「スイート」については前年比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%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減、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「ビター」については前年比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%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増とす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142920" y="5448240"/>
            <a:ext cx="43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回帰分析の結果によると、気温と販売数量の間には、「スタンダード」では、ほとんど相関関係がないが、「スイート」と「ビター」については、極めて強い相関間関係がある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4643280" y="5448240"/>
            <a:ext cx="42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来年は暖冬傾向が示されているため、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-3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月の販売数量は前年比で、「スイート」につい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-10%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の減少、「ビター」につい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-10%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の増加が予測される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3160" y="2550960"/>
            <a:ext cx="4198680" cy="274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348080" y="2550960"/>
            <a:ext cx="45799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08:35Z</dcterms:created>
  <dc:creator>平井 明夫</dc:creator>
  <dc:description/>
  <dc:language>en-US</dc:language>
  <cp:lastModifiedBy>Gihyo</cp:lastModifiedBy>
  <dcterms:modified xsi:type="dcterms:W3CDTF">2010-09-14T03:34:15Z</dcterms:modified>
  <cp:revision>24</cp:revision>
  <dc:subject/>
  <dc:title>スライド 1</dc:title>
</cp:coreProperties>
</file>