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3F5-7736-4348-A0CC-F7343D1C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8FF-E249-4F6F-B644-F44FBC62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F59-8813-4977-803B-A0CAE830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8DA-3D40-441F-B06E-222E18F4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6A9-02F2-4260-9568-413EAA30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BDA-0908-44FA-A321-912E2B20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2BD-3FA9-4327-95F7-E52C6992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906-CFA0-4420-89C0-F251AA27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262-8B55-47F3-8033-02179315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9B7-1022-408D-BD61-31D1DD09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2B6-EE44-4916-BBEF-7938206C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9FE-C9F1-46F3-86CE-305683B3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F1B5-D268-4450-8567-A32142B78F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会社全体の営業利益は伸びてきているものの、酒類事業部の落ち込みが大きい。詳細な状況を確認し、対応策を即時に検討する必要がある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また、食品事業部の伸びが著しく、積極的な投資を考えていくべ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7416720" cy="5317920"/>
          </a:xfrm>
          <a:prstGeom prst="rect">
            <a:avLst/>
          </a:prstGeom>
          <a:ln w="0">
            <a:noFill/>
          </a:ln>
        </p:spPr>
      </p:pic>
      <p:sp>
        <p:nvSpPr>
          <p:cNvPr id="43" name="下矢印 4"/>
          <p:cNvSpPr/>
          <p:nvPr/>
        </p:nvSpPr>
        <p:spPr>
          <a:xfrm>
            <a:off x="324000" y="1844640"/>
            <a:ext cx="1008000" cy="4753080"/>
          </a:xfrm>
          <a:prstGeom prst="downArrow">
            <a:avLst>
              <a:gd name="adj1" fmla="val 72324"/>
              <a:gd name="adj2" fmla="val 5001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角丸四角形 5"/>
          <p:cNvSpPr/>
          <p:nvPr/>
        </p:nvSpPr>
        <p:spPr>
          <a:xfrm>
            <a:off x="179280" y="242100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15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角丸四角形 7"/>
          <p:cNvSpPr/>
          <p:nvPr/>
        </p:nvSpPr>
        <p:spPr>
          <a:xfrm>
            <a:off x="179280" y="321300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28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角丸四角形 8"/>
          <p:cNvSpPr/>
          <p:nvPr/>
        </p:nvSpPr>
        <p:spPr>
          <a:xfrm>
            <a:off x="179280" y="400536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44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角丸四角形 9"/>
          <p:cNvSpPr/>
          <p:nvPr/>
        </p:nvSpPr>
        <p:spPr>
          <a:xfrm>
            <a:off x="179280" y="479736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64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角丸四角形 10"/>
          <p:cNvSpPr/>
          <p:nvPr/>
        </p:nvSpPr>
        <p:spPr>
          <a:xfrm>
            <a:off x="179280" y="558972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79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0:20:58Z</dcterms:created>
  <dc:creator>Gihyo</dc:creator>
  <dc:description/>
  <dc:language>en-US</dc:language>
  <cp:lastModifiedBy>Gihyo</cp:lastModifiedBy>
  <dcterms:modified xsi:type="dcterms:W3CDTF">2010-09-14T03:44:55Z</dcterms:modified>
  <cp:revision>2</cp:revision>
  <dc:subject/>
  <dc:title>会社全体の営業利益は伸びてきているものの、酒類事業部の落ち込みが大きい。詳細な状況を確認し、対応策を即時に検討する必要がある。 また、食品事業部の伸びが著しく、積極的な投資を考えていくべき。</dc:title>
</cp:coreProperties>
</file>