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CE1-B529-4A40-AB91-FBDB4069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E63-9F3F-4449-A15A-6E03E45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61A-8004-4399-8B42-66EA34F1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86C-DF6C-4EC1-987D-A2BCC2C3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279-E563-4CE4-A57B-F3AB545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F9A-8642-4447-85D0-5AE9706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72D-2E50-47FF-9942-8795BC7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9BF-DBEB-4A26-8E89-F90E167A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58F-D9F7-4E5E-A9D4-9AD5FE6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1C9-DE72-4E3B-BF98-2C785FF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CB3-AD69-4401-B758-C3FCC65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60E-2711-49FD-8F19-C9F0938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1875-3E85-4B02-AFCB-509E8E8F7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顧客満足度のアンケート調査結果から、今回の新製品導入にあたり、改善すべき項目は、次の３項目となる。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①デザインの改善（３製品全て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②味の見直し（スイート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の変更（ビタ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タイトル 3"/>
          <p:cNvSpPr/>
          <p:nvPr/>
        </p:nvSpPr>
        <p:spPr>
          <a:xfrm>
            <a:off x="803160" y="5084640"/>
            <a:ext cx="2016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タンダード」は、デザイ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3"/>
          <p:cNvSpPr/>
          <p:nvPr/>
        </p:nvSpPr>
        <p:spPr>
          <a:xfrm>
            <a:off x="3379680" y="5103720"/>
            <a:ext cx="2160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イート」は、デザインと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タイトル 3"/>
          <p:cNvSpPr/>
          <p:nvPr/>
        </p:nvSpPr>
        <p:spPr>
          <a:xfrm>
            <a:off x="6012000" y="5111640"/>
            <a:ext cx="2160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ビター」は、デザイン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77960" y="2421000"/>
            <a:ext cx="21495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397320" y="2435400"/>
            <a:ext cx="2149560" cy="247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040440" y="2436840"/>
            <a:ext cx="21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36:33Z</dcterms:created>
  <dc:creator>Gihyo</dc:creator>
  <dc:description/>
  <dc:language>en-US</dc:language>
  <cp:lastModifiedBy>Gihyo</cp:lastModifiedBy>
  <dcterms:modified xsi:type="dcterms:W3CDTF">2010-09-14T03:30:20Z</dcterms:modified>
  <cp:revision>2</cp:revision>
  <dc:subject/>
  <dc:title>顧客満足度のアンケート調査結果から、今回の新製品導入にあたり、改善すべき項目は、次の３項目となる。 ①デザインの改善（３製品全て） ②味の見直し（スイート） ③CMの変更（ビター）</dc:title>
</cp:coreProperties>
</file>