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758-CC57-4EA8-BDD8-109DE534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F3C-107B-4EC4-A72A-0CFE55E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691-7A41-4823-A57F-D0F5914A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2F8-F2BB-41E8-91B6-4BCED5D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1F9-5972-4C91-A3D0-4A41377C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DB2-FC6C-4332-B3EE-25F2AC2E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A39-9B9E-48CB-AB13-05E8C8E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E3E-B22E-4570-888E-12A57458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D2F-1704-4302-8DE7-3C36DB2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B6D-4666-4CC1-89EA-9F99C4D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BA2-95D0-4AA5-AA51-E504F14F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41C-5A8C-4A7E-9B6F-B86AB94C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825-7B01-49FD-B741-3EDEEF1301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わが社の商品で、缶コーヒーが販売不振に陥っているので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早急にてこ入れ、即ち新製品の投入が必要であ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71000" cy="49690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1936800" y="262728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1930320" y="558972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負け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6256440" y="2625840"/>
            <a:ext cx="4550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花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9"/>
          <p:cNvSpPr/>
          <p:nvPr/>
        </p:nvSpPr>
        <p:spPr>
          <a:xfrm>
            <a:off x="5744520" y="5587920"/>
            <a:ext cx="86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金のなる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6"/>
          <p:cNvSpPr/>
          <p:nvPr/>
        </p:nvSpPr>
        <p:spPr>
          <a:xfrm>
            <a:off x="1793880" y="4292640"/>
            <a:ext cx="502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1"/>
          <p:cNvSpPr/>
          <p:nvPr/>
        </p:nvSpPr>
        <p:spPr>
          <a:xfrm>
            <a:off x="4307040" y="2627280"/>
            <a:ext cx="0" cy="333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右矢印 1"/>
          <p:cNvSpPr/>
          <p:nvPr/>
        </p:nvSpPr>
        <p:spPr>
          <a:xfrm rot="18252600">
            <a:off x="2677320" y="5667480"/>
            <a:ext cx="704520" cy="64008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6:50:17Z</dcterms:created>
  <dc:creator>Gihyo</dc:creator>
  <dc:description/>
  <dc:language>en-US</dc:language>
  <cp:lastModifiedBy>Gihyo</cp:lastModifiedBy>
  <dcterms:modified xsi:type="dcterms:W3CDTF">2010-09-14T03:30:53Z</dcterms:modified>
  <cp:revision>3</cp:revision>
  <dc:subject/>
  <dc:title>わが社の商品で、缶コーヒーが販売不振に陥っているので 早急にてこ入れ、即ち新製品の投入が必要である。</dc:title>
</cp:coreProperties>
</file>