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D62-5CD2-41AB-9A07-A33682B1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51A-B2D5-440A-908E-666A9CED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B55-7ACD-4B05-937C-526A8353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B3D-7DC8-435D-90CD-4BD3192F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D43-E909-480D-B036-3B73205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8F8-93DF-479C-86AB-C3E84CB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23D-AE6F-4CAC-8428-B216F72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20A-483E-4319-9355-408EF26C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C8A-2D30-44D9-A723-8B23BB42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8FB-BB7C-4BF4-A74D-3D50A5B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F97-6834-4F77-93BB-2D598223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2F7-6377-4D58-8C87-61A8FED1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77F2-2958-4FF1-A0AE-9BFEEBEAEE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発注方法を見直すことによって、大きな在庫の削減が期待できる。在庫回転率の悪い商品については、すぐに発注方法の見直しを行っていく必要があ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61200" cy="22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468360" y="4575240"/>
            <a:ext cx="8174160" cy="2255760"/>
          </a:xfrm>
          <a:prstGeom prst="rect">
            <a:avLst/>
          </a:prstGeom>
          <a:ln w="0">
            <a:noFill/>
          </a:ln>
        </p:spPr>
      </p:pic>
      <p:sp>
        <p:nvSpPr>
          <p:cNvPr id="44" name="角丸四角形 5"/>
          <p:cNvSpPr/>
          <p:nvPr/>
        </p:nvSpPr>
        <p:spPr>
          <a:xfrm>
            <a:off x="900000" y="162864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二等辺三角形 6"/>
          <p:cNvSpPr/>
          <p:nvPr/>
        </p:nvSpPr>
        <p:spPr>
          <a:xfrm rot="10800000">
            <a:off x="3053880" y="4040280"/>
            <a:ext cx="2094120" cy="382320"/>
          </a:xfrm>
          <a:prstGeom prst="triangle">
            <a:avLst>
              <a:gd name="adj" fmla="val 50000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14"/>
          <p:cNvSpPr/>
          <p:nvPr/>
        </p:nvSpPr>
        <p:spPr>
          <a:xfrm>
            <a:off x="914400" y="4422600"/>
            <a:ext cx="444960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ベースのシミュレーショ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9"/>
          <p:cNvSpPr/>
          <p:nvPr/>
        </p:nvSpPr>
        <p:spPr>
          <a:xfrm>
            <a:off x="784080" y="2681280"/>
            <a:ext cx="67676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9"/>
          <p:cNvSpPr/>
          <p:nvPr/>
        </p:nvSpPr>
        <p:spPr>
          <a:xfrm>
            <a:off x="826920" y="5489640"/>
            <a:ext cx="67694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6515640" y="4049640"/>
            <a:ext cx="1681560" cy="106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シミュレーション結果で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実績と比較すると、在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量が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を超える日が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きく減少してい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11:43Z</dcterms:created>
  <dc:creator>Gihyo</dc:creator>
  <dc:description/>
  <dc:language>en-US</dc:language>
  <cp:lastModifiedBy>IAF Consulting Inc.</cp:lastModifiedBy>
  <dcterms:modified xsi:type="dcterms:W3CDTF">2010-09-14T07:51:49Z</dcterms:modified>
  <cp:revision>4</cp:revision>
  <dc:subject/>
  <dc:title>発注方法を見直すことによって、大きな在庫の削減が期待できる。在庫回転率の悪い商品については、すぐに発注方法の見直しを行っていく必要がある。</dc:title>
</cp:coreProperties>
</file>