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80C-606A-4D0B-9E57-5B93DD76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A21-09C4-4E32-9897-8DA210B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BD1-AB50-4425-B13B-C8558675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1AA-7C5B-4C65-8133-3631A5F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BCF-542B-4566-BCC4-99C47EBC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93B-5A28-4245-9F36-CEFCFD4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657-3516-4616-B016-694B7C88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930-8B4B-47D5-A3BE-98D5F83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626-D047-452A-AD76-C86521E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D73-F8EE-43EA-94CD-091F51B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5F7-BACC-4C24-B1EB-A2B1C87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9C5-41EA-4425-B8CE-CF3385A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4ED2-C574-4DD1-B0F3-7F45EC467E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わが社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つの事業部のうち、自転車用品事業部が順調に売上を伸ばしてきている。この機に大きな販促を実施し、シェアの拡大を狙っ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7760" y="2492280"/>
            <a:ext cx="464976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99040" y="1670040"/>
            <a:ext cx="372096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099040" y="4165560"/>
            <a:ext cx="3720960" cy="2432160"/>
          </a:xfrm>
          <a:prstGeom prst="rect">
            <a:avLst/>
          </a:prstGeom>
          <a:ln w="0">
            <a:noFill/>
          </a:ln>
        </p:spPr>
      </p:pic>
      <p:sp>
        <p:nvSpPr>
          <p:cNvPr id="45" name="右矢印 4"/>
          <p:cNvSpPr/>
          <p:nvPr/>
        </p:nvSpPr>
        <p:spPr>
          <a:xfrm rot="21154200">
            <a:off x="971280" y="3215880"/>
            <a:ext cx="3313080" cy="28728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12"/>
          <p:cNvSpPr/>
          <p:nvPr/>
        </p:nvSpPr>
        <p:spPr>
          <a:xfrm rot="369000">
            <a:off x="5586480" y="227484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右矢印 13"/>
          <p:cNvSpPr/>
          <p:nvPr/>
        </p:nvSpPr>
        <p:spPr>
          <a:xfrm>
            <a:off x="5580000" y="459576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5"/>
          <p:cNvSpPr/>
          <p:nvPr/>
        </p:nvSpPr>
        <p:spPr>
          <a:xfrm>
            <a:off x="2079360" y="368928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右肩上がり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がって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5"/>
          <p:cNvSpPr/>
          <p:nvPr/>
        </p:nvSpPr>
        <p:spPr>
          <a:xfrm>
            <a:off x="6317640" y="267984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下がっ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6"/>
          <p:cNvSpPr/>
          <p:nvPr/>
        </p:nvSpPr>
        <p:spPr>
          <a:xfrm>
            <a:off x="6335280" y="490536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堅調に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移し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5:11:18Z</dcterms:created>
  <dc:creator>Gihyo</dc:creator>
  <dc:description/>
  <dc:language>en-US</dc:language>
  <cp:lastModifiedBy>Gihyo</cp:lastModifiedBy>
  <dcterms:modified xsi:type="dcterms:W3CDTF">2010-09-14T03:16:28Z</dcterms:modified>
  <cp:revision>3</cp:revision>
  <dc:subject/>
  <dc:title>PowerPoint プレゼンテーション</dc:title>
</cp:coreProperties>
</file>