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372-68BE-4AD1-AC39-BE7E867D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CCC-AFEA-4C7B-B9DF-05F85693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644-0CFD-4D4C-A23B-EC543355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67C-0E76-4E7F-9226-41FC051A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B017-5414-4ADF-946F-AC97F043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A5C-4925-4978-A641-FA5B4EE2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2F8-6ABD-4AEB-A729-7786194F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2CA-085E-4098-B622-8FF46156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F84-1627-4FAE-BA94-A3C0CD8C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F28-3466-4728-82CF-4C3A6AC5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34F-7402-4D01-A163-7775DFC0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C23-5F4E-4989-8BD5-0B277C96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4BD0-049E-4928-A174-455FA5F233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自転車用品事業部の中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『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ウェア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』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『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シューズ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』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の売上が著しく伸びている。来期はこの分野の販促を強化し、自転車用品事業部の一層の成長につなげていきた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11280" y="1538280"/>
            <a:ext cx="7962840" cy="5203800"/>
          </a:xfrm>
          <a:prstGeom prst="rect">
            <a:avLst/>
          </a:prstGeom>
          <a:ln w="0">
            <a:noFill/>
          </a:ln>
        </p:spPr>
      </p:pic>
      <p:sp>
        <p:nvSpPr>
          <p:cNvPr id="43" name="円/楕円 4"/>
          <p:cNvSpPr/>
          <p:nvPr/>
        </p:nvSpPr>
        <p:spPr>
          <a:xfrm rot="19759800">
            <a:off x="1069560" y="3178080"/>
            <a:ext cx="6640560" cy="1081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角丸四角形 5"/>
          <p:cNvSpPr/>
          <p:nvPr/>
        </p:nvSpPr>
        <p:spPr>
          <a:xfrm>
            <a:off x="7466040" y="4797360"/>
            <a:ext cx="793800" cy="43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6:29:55Z</dcterms:created>
  <dc:creator>Gihyo</dc:creator>
  <dc:description/>
  <dc:language>en-US</dc:language>
  <cp:lastModifiedBy>Gihyo</cp:lastModifiedBy>
  <dcterms:modified xsi:type="dcterms:W3CDTF">2010-09-14T03:18:59Z</dcterms:modified>
  <cp:revision>1</cp:revision>
  <dc:subject/>
  <dc:title>自転車用品事業部の中で『ウェア』と『シューズ』の売上が著しく伸びている。来期はこの分野の販促を強化し、自転車用品事業部の一層の成長につなげていきたい。</dc:title>
</cp:coreProperties>
</file>