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7C1-DF51-4A55-B493-AA71C948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D8E-4363-4001-8AE6-8D85D98F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8E8-D4FF-4CB9-AF72-666341D6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988-C8B1-4227-9E39-7C717582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16E-A0DA-44BD-9EDD-E78680E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953-639E-4611-87C9-DC8D4FC3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5A6-2393-4CAC-8FFB-B2ADA738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BB9-F5E3-4FB4-9D23-59F83DD9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A6A-86F7-4BE7-9AA2-6DEF29E9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D7D-52CE-4B91-A811-146C02F2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2AD-224E-4549-BE20-946B4739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D0F-1104-43F2-8052-698C81C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6CEE-0F65-4F76-BC49-ACB4BF554C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在庫回転率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0”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より低い商品については、発注方法を早急に見直す必要があ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1353960"/>
            <a:ext cx="8353440" cy="5459760"/>
          </a:xfrm>
          <a:prstGeom prst="rect">
            <a:avLst/>
          </a:prstGeom>
          <a:ln w="0">
            <a:noFill/>
          </a:ln>
        </p:spPr>
      </p:pic>
      <p:sp>
        <p:nvSpPr>
          <p:cNvPr id="43" name="角丸四角形 4"/>
          <p:cNvSpPr/>
          <p:nvPr/>
        </p:nvSpPr>
        <p:spPr>
          <a:xfrm>
            <a:off x="1116000" y="4437000"/>
            <a:ext cx="626436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c00000"/>
                </a:solidFill>
                <a:latin typeface="Calibri"/>
              </a:rPr>
              <a:t>在庫回転率が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3.0”</a:t>
            </a:r>
            <a:r>
              <a:rPr b="1" lang="ja-JP" sz="1800" spc="-1" strike="noStrike">
                <a:solidFill>
                  <a:srgbClr val="c00000"/>
                </a:solidFill>
                <a:latin typeface="Calibri"/>
              </a:rPr>
              <a:t>より低いも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5"/>
          <p:cNvSpPr/>
          <p:nvPr/>
        </p:nvSpPr>
        <p:spPr>
          <a:xfrm rot="18956400">
            <a:off x="6194520" y="6105240"/>
            <a:ext cx="120960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 rot="18956400">
            <a:off x="5557680" y="6114960"/>
            <a:ext cx="1208160" cy="1764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 rot="18956400">
            <a:off x="4005000" y="6114600"/>
            <a:ext cx="1209600" cy="1764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10"/>
          <p:cNvSpPr/>
          <p:nvPr/>
        </p:nvSpPr>
        <p:spPr>
          <a:xfrm rot="18956400">
            <a:off x="2446200" y="6129000"/>
            <a:ext cx="120996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11"/>
          <p:cNvSpPr/>
          <p:nvPr/>
        </p:nvSpPr>
        <p:spPr>
          <a:xfrm rot="18956400">
            <a:off x="905040" y="6129000"/>
            <a:ext cx="120960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1:46:09Z</dcterms:created>
  <dc:creator>Gihyo</dc:creator>
  <dc:description/>
  <dc:language>en-US</dc:language>
  <cp:lastModifiedBy>a-hirai</cp:lastModifiedBy>
  <dcterms:modified xsi:type="dcterms:W3CDTF">2010-09-14T03:56:47Z</dcterms:modified>
  <cp:revision>2</cp:revision>
  <dc:subject/>
  <dc:title>在庫回転率が”3.0”より低い商品については、発注方法を早急に見直す必要がある。</dc:title>
</cp:coreProperties>
</file>