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AC2-1429-4FA3-8B8A-3AE88E32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4E6-D275-4C00-AFFF-B3EAAC08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4AE-7167-4340-A910-395B255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CB0-52A5-4F75-86B0-5986C20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ED9-D8BC-4C6A-981E-ECBC6EC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2E4-4F39-433D-B1D8-7B2FEE71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90A-7C47-4D76-A35B-5644E6D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07A-36AB-4B0C-8986-FCC4C9F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F0C-1B85-4D37-A8F4-2B49DCD9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1AA-A6FA-4581-BE22-59423C7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B6B-2927-44C5-823A-4BC05C1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CB4-CB69-45BD-A3AD-6947524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4E0-88CE-48F7-A75F-B879CEC145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商品ごとの利益金額を考慮した棚割りに変更することによって、棚あたりの利益額を増加させることができ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582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4386240" y="484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れまですべての商品を均等に並べていたが、線形計画法を使って算出した最適値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うことによって、棚の大きさや並べる商品の種類を変えずに、棚あたりの利益額を増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させること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>
            <a:off x="41544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60120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5148360" y="2924280"/>
            <a:ext cx="718920" cy="1009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8"/>
          <p:cNvSpPr/>
          <p:nvPr/>
        </p:nvSpPr>
        <p:spPr>
          <a:xfrm>
            <a:off x="7812000" y="4365720"/>
            <a:ext cx="97020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53:08Z</dcterms:created>
  <dc:creator>Gihyo</dc:creator>
  <dc:description/>
  <dc:language>en-US</dc:language>
  <cp:lastModifiedBy>a-hirai</cp:lastModifiedBy>
  <dcterms:modified xsi:type="dcterms:W3CDTF">2010-09-14T03:55:55Z</dcterms:modified>
  <cp:revision>2</cp:revision>
  <dc:subject/>
  <dc:title>商品ごとの利益金額を考慮した棚割りに変更することによって、棚あたりの利益額を増加させることができる。</dc:title>
</cp:coreProperties>
</file>