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139-0A76-4B80-9AB2-ED98ED05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4AD4-31CE-4C3F-AB59-C892978C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68E-1D91-4CD7-9EFC-D925FAF7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780-AD22-46E9-B18C-4D40741E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471-1EC5-4666-B061-0EE7262F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3BD-95A6-4611-AB9E-55779169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B7F-9989-44B3-A7CD-9F829D79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5D7-3AFD-4011-96F5-10AF7D42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7FB-1F50-4F41-B649-F90D249E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0EE7-81FD-4C68-941A-E3032547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920-D3B3-4E6E-B089-EB5358C8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CB5-F957-4309-AFDA-7EB01620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0055-D561-4D53-850C-CEA25B966A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年上期は広告宣伝費と販売促進費が販売費・一般費の合計の半分ほどを占め、大きな負担となっている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費用削減のためには、広告宣伝費と販売促進費の効果測定を行ない、その効果をきちんと精査していく必要があると思われ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39640" y="1542960"/>
            <a:ext cx="8064720" cy="5270760"/>
          </a:xfrm>
          <a:prstGeom prst="rect">
            <a:avLst/>
          </a:prstGeom>
          <a:ln w="0">
            <a:noFill/>
          </a:ln>
        </p:spPr>
      </p:pic>
      <p:sp>
        <p:nvSpPr>
          <p:cNvPr id="43" name="円/楕円 4"/>
          <p:cNvSpPr/>
          <p:nvPr/>
        </p:nvSpPr>
        <p:spPr>
          <a:xfrm>
            <a:off x="7236000" y="3255840"/>
            <a:ext cx="1368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6366600" y="229716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0000"/>
                </a:solidFill>
                <a:latin typeface="Calibri"/>
              </a:rPr>
              <a:t>広告宣伝費と販売促進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0000"/>
                </a:solidFill>
                <a:latin typeface="Calibri"/>
              </a:rPr>
              <a:t>で全体の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右矢印 6"/>
          <p:cNvSpPr/>
          <p:nvPr/>
        </p:nvSpPr>
        <p:spPr>
          <a:xfrm rot="323400">
            <a:off x="4832280" y="3028680"/>
            <a:ext cx="2239920" cy="5284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右矢印 8"/>
          <p:cNvSpPr/>
          <p:nvPr/>
        </p:nvSpPr>
        <p:spPr>
          <a:xfrm rot="20502600">
            <a:off x="5005080" y="3973320"/>
            <a:ext cx="2239920" cy="52704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07:41:00Z</dcterms:created>
  <dc:creator>Gihyo</dc:creator>
  <dc:description/>
  <dc:language>en-US</dc:language>
  <cp:lastModifiedBy>Gihyo</cp:lastModifiedBy>
  <dcterms:modified xsi:type="dcterms:W3CDTF">2010-09-14T03:43:40Z</dcterms:modified>
  <cp:revision>2</cp:revision>
  <dc:subject/>
  <dc:title>2010年上期は広告宣伝費と販売促進費が販売費・一般費の合計の半分ほどを占め、大きな負担となっている。 費用削減のためには、広告宣伝費と販売促進費の効果測定を行ない、その効果をきちんと精査していく必要があると思われる。</dc:title>
</cp:coreProperties>
</file>