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20D8-8771-4820-95BD-E46970C48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C73C-4FDC-4E1F-8746-A80347317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3929-BE84-458D-BA2A-BF481FA14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F9B3-C79F-4959-9F94-A74B41609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9697-EAA4-4DEE-B9DC-053F59BE1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810D-C515-46EA-B22C-4E83EB851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C4D2-15C4-410B-9BE5-612E6182B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705B-5FE1-4FFF-92FA-14B2DEBBE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B9F8-2D9A-4D71-9721-20C911059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1C34-F659-41F4-A2F0-98A2B85C9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6A50-CC1F-44A5-82F6-F64EE2779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48BF-E898-4718-9D10-30C69DB6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CDB24-89DC-43CC-A6A0-782647FA288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自転車用品事業部の売上は上位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つの販売店で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割をカバーしているため、この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つの販売店に絞って販促を実施す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468360" y="1270080"/>
            <a:ext cx="8280360" cy="5411880"/>
          </a:xfrm>
          <a:prstGeom prst="rect">
            <a:avLst/>
          </a:prstGeom>
          <a:ln w="0">
            <a:noFill/>
          </a:ln>
        </p:spPr>
      </p:pic>
      <p:sp>
        <p:nvSpPr>
          <p:cNvPr id="43" name="角丸四角形 4"/>
          <p:cNvSpPr/>
          <p:nvPr/>
        </p:nvSpPr>
        <p:spPr>
          <a:xfrm>
            <a:off x="900000" y="5589720"/>
            <a:ext cx="1800360" cy="647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テキスト ボックス 5"/>
          <p:cNvSpPr/>
          <p:nvPr/>
        </p:nvSpPr>
        <p:spPr>
          <a:xfrm>
            <a:off x="1187280" y="1835280"/>
            <a:ext cx="1513080" cy="3682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ラン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テキスト ボックス 7"/>
          <p:cNvSpPr/>
          <p:nvPr/>
        </p:nvSpPr>
        <p:spPr>
          <a:xfrm>
            <a:off x="2700360" y="3792600"/>
            <a:ext cx="934920" cy="36828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ラン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テキスト ボックス 8"/>
          <p:cNvSpPr/>
          <p:nvPr/>
        </p:nvSpPr>
        <p:spPr>
          <a:xfrm>
            <a:off x="3635280" y="4797360"/>
            <a:ext cx="3384720" cy="3682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ラン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1T23:12:26Z</dcterms:created>
  <dc:creator>Gihyo</dc:creator>
  <dc:description/>
  <dc:language>en-US</dc:language>
  <cp:lastModifiedBy>Gihyo</cp:lastModifiedBy>
  <dcterms:modified xsi:type="dcterms:W3CDTF">2010-09-14T03:20:15Z</dcterms:modified>
  <cp:revision>2</cp:revision>
  <dc:subject/>
  <dc:title>自転車用品事業部の売上は上位5つの販売店で8割をカバーしているため、この5つの販売店に絞って販促を実施する</dc:title>
</cp:coreProperties>
</file>