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870-3FF7-49B4-BFD2-E07BEF05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650-F4C2-4A36-B142-2E3BCD9D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8FEDF-A1F5-4DAF-B3B1-09BEF5BA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C6532-DE22-4AD2-84EE-1C9E85A8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A0303-B889-4342-99B9-79BC4728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5154A-8D21-419E-AC3A-1AB04BEE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0BE6F-CD87-4720-AFC5-048539B8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FD1A8-B47A-4DE7-A3E8-EB8B0E0C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752AD-8C33-4EC6-B66E-EB4F921F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C9871-674E-4FE1-9AF5-E249FBE6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33F06-CB0D-491B-84D0-961034B4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2ADE8-14FA-4DB5-888A-EA9B926B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0C2-94F3-454B-BFB5-D3049B01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4D4A3-E9FD-43D5-93A9-A1E05E1A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F836B1-E113-4A60-A769-0F67024C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E1276-692D-4933-B4CF-154A65B6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AC813-39F2-4ADF-A849-8DD50EF7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359CE-86E6-40D0-A6D8-D68AC666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5328B-E08B-44E5-BC13-6AC79F16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4C161-4D0B-489C-80A2-4A34633D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D6C91-93A7-4920-A024-A30D278C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5285A-82EC-4FED-9E02-3FD7BE9B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3CF8C-22D0-454F-9A32-64CF7DCA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C5D-F7D4-45AE-BEDA-F4A40D07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B6E75-1EBF-4E9C-AE62-0DD48BDD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B3201-DF27-4C78-AD13-4EDBA55E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B7C99-141A-4E36-8B18-690DFC35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B81EF-2F7D-44EB-A01B-9E574D91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E6166-846A-4EFD-989A-6326AF53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ADE9B-37E7-41F3-A139-BA86EA24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51651-CC2A-4EFB-8D82-CCF78186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DF067-D980-4BE8-B8C8-EA541FAD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5D271-BC84-405B-B502-17644432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C4AE2-13C1-4A75-8448-D82BCC15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7153-DC32-4C6A-973F-EFE94190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11417-C7E5-4454-9A11-4ABBA610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15E3A-A73C-4862-8845-2A31DC97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21651-4AE7-496C-A89C-DB613EAA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67A8E-E101-40F4-90B3-BDD4D5D7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6D8E6-C517-4BDD-825B-FCE3DE44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1D07E-8651-41D1-8307-E485EB2E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E1F30-B982-400E-A811-142D9E94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B6A8E-1087-448F-804E-1C9D5D2C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D3B67-9B3C-436F-879D-9A9E99E7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901DE-B5B7-43BE-B9D2-7510E16D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E629-FE20-4F99-BD0B-1AF5A7AC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0BB1D-EABF-4B08-96A6-4ECBB74A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FE617-B86F-4BA8-9285-D3165B7C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18C1A-DFEF-459B-9266-DEE7F310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0DFBD-6E1A-4421-8571-82CE7D91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18676-C108-4E09-9BFB-4278609C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9A82-D214-4895-B04B-D9837DC6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A31D-8E06-4E6F-ABDF-837DD4E0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99C5-FD11-4283-84E0-47607FBA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BF7A-D0BD-4BED-B102-6223A905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4830-9BC9-4319-A04B-3342B377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D43-2884-493E-9521-548F5E09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8D33-D038-4D72-9FC6-6561D33A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5EE9-550D-4A40-B847-A26474DD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E6DF-FC61-4456-9A63-1CEED406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7128-11AD-476A-B099-FA30FF8D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9081-2D0F-4D11-B08B-C667F5BA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6940B-3F40-47FA-9798-B9E05167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E8DAF-1921-42DD-9410-48D6111B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03992-EF8E-4DCA-AAC8-B9750412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860BE-FBAB-48BA-89D1-B6A01E2F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4E5EE-D0E0-40C8-A102-D422D33E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840-FFEB-47A8-9780-D5DCE9BA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079EA-A6B3-406D-93DD-3641FDF7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5A45E-B43C-443B-BDD6-233B96D9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95558-A64F-4363-B62A-61E9A4CA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AD92F-B42B-461B-9F81-1218CB63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B5ECA-9F9B-4989-AD8D-0A209043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5156-9780-4876-A5B2-E6D201EC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2FB6B-48FF-4067-9335-5D085342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A8D79-28B8-42A8-91C5-0117A255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3A55E-8085-4F21-96F7-C9BC8CA5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5EF6E-7C98-473B-B1AE-0A47A397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AD3-F213-434E-9343-9899DBEA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84DD9-60CA-4AFD-BE89-4B8DF3BB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6007D-E8DE-45EC-8340-3B423133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1F3F3-C91D-477B-B9ED-F4CC60E4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83CB4-1A39-42E9-AE07-2098F7A1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B83FA-0B02-40FE-B215-BB2079E0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E7356-4453-4BDD-8406-8C4F2CC4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0D3C4-23FE-440A-B8B7-21D5B3E9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20EC9-BF82-44EE-AF6A-C0328851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E1CBF-D1EE-44A6-BF83-8A5D0DC2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E176D-0220-4288-84B8-C3250B8F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5C4E-5465-4604-8C2B-3343E548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A5575-F2D8-4A4F-BBF8-85B84C08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374C4-AEA5-43AE-8645-45860CDB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0BBEA-3D68-4DD7-ACE6-9B1B6E4B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E16EA-F6F8-45C0-9CE2-EAB5ECE0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708BC-AFD4-4DAF-B518-6CDDE3BD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F8B2A-ECF3-431A-B893-57A63598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A57C3-F223-4B0E-A40A-0F818448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D9CB2-5C56-4604-A130-D64FCA90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29FE7-451A-413F-A9DE-8E678C98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10D81-9D26-4957-B60D-D1D28319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C67-440A-4759-84E1-9EB15F44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455A4-644C-4735-AADD-73A7DB94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15E6A-AC7C-4463-B501-51E7C65A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10AB2-522B-4C24-A57B-EC8F52B8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2676E-FEC8-48F8-A4FC-259B43FC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10B6C-B727-48C0-9C33-2ED59675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4717A-C677-425D-950F-8786D92B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1758D-F937-4DA6-9E1C-DDD53DDB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B5CB1-0E81-4B9A-9137-8A5BC52F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7A273-13DA-42EF-B61D-51A45292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933AE-4FC4-43DA-9946-D05A83A1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DAD-66E3-41F4-A887-1FD4CD13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3747B-8DBD-4D30-B8FF-04C98B87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468A1-3907-41A8-A675-70F3B2EE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763DA-2499-446F-9CAC-7E652A91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31DFD-171B-45CD-8263-BA1144A4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A262E-3A07-44BA-9C8E-E5699445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868B8-F928-477C-B96F-57D7562C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F7CCC-068D-4596-AC01-860D71BB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F9F49-41D2-4B4C-927D-5F29C645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D1739-911E-4FD3-91D8-7D646A18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E50D3-71FB-483A-B7AB-43C2E734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B37E-610B-465C-A5FD-98AA64D7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FC64C-A386-4101-9F2D-8B429383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29DB9-7843-49AA-B285-3B3BCCCF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B675D-A499-420F-BCE2-4A02A0B3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690EF-7CB0-49E1-A46F-09C0F612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5E805-B7A9-4B32-B11D-5F95037E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DE257-333F-4DE6-9A76-29393537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FCDCD-9172-4C02-9B74-83DFC9EF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5F0BF-3A3D-44B0-9255-B5DA8351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A525C-0CC9-4A02-9D00-8F0BF5A4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944A0-FFCD-46AA-BB52-10B68931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B223-3F18-43A9-96E8-64EF1691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A26E4-43AC-4697-B0DB-1D9C5722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51930-04DC-4787-AF72-DA525136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62CC4-D8AE-4B70-8532-461C2210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6AF96-738C-4F15-8CAE-77B283FA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66680" y="4006440"/>
            <a:ext cx="10058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A4784-653A-4D37-B4BB-6FCA92FA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0800" y="17870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6668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220800" y="4006440"/>
            <a:ext cx="490824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4FDF3-A698-4B88-A756-1B3CA47D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46760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868520" y="17870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6668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46760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7868520" y="4006440"/>
            <a:ext cx="32385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43AC0-B8FE-47F7-BF87-A75F8ECB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7983E-C3E1-418D-91DA-781573D1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BD979-AC2A-4871-B330-B7865D1A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B85CA-C096-449E-BD5C-1096E110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237960" y="237960"/>
            <a:ext cx="11728080" cy="6388200"/>
            <a:chOff x="237960" y="237960"/>
            <a:chExt cx="11728080" cy="63882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240480" y="237960"/>
              <a:ext cx="11725560" cy="63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37960" y="237960"/>
              <a:ext cx="11719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solidFill>
            <a:srgbClr val="bac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55f5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55f5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55f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BAE61-9860-43B7-95DF-F38846826797}" type="slidenum">
              <a:rPr b="0" lang="en-US" sz="1000" spc="-1" strike="noStrike">
                <a:solidFill>
                  <a:srgbClr val="455f5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3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ffffff"/>
          </a:solidFill>
          <a:ln cap="sq"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8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9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0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5BF54-0E84-4E1B-8784-B7AF8153CD78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Rectangle 6"/>
          <p:cNvGrpSpPr/>
          <p:nvPr/>
        </p:nvGrpSpPr>
        <p:grpSpPr>
          <a:xfrm>
            <a:off x="237960" y="237960"/>
            <a:ext cx="11728080" cy="6388200"/>
            <a:chOff x="237960" y="237960"/>
            <a:chExt cx="11728080" cy="6388200"/>
          </a:xfrm>
        </p:grpSpPr>
        <p:pic>
          <p:nvPicPr>
            <p:cNvPr id="467" name="Rectangle 6" descr=""/>
            <p:cNvPicPr/>
            <p:nvPr/>
          </p:nvPicPr>
          <p:blipFill>
            <a:blip r:embed="rId2"/>
            <a:stretch/>
          </p:blipFill>
          <p:spPr>
            <a:xfrm>
              <a:off x="240480" y="237960"/>
              <a:ext cx="11725560" cy="63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37960" y="237960"/>
              <a:ext cx="11719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69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solidFill>
            <a:srgbClr val="bac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B0BF9-E190-4903-B23A-7BFE0F56D04D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Rectangle 6"/>
          <p:cNvGrpSpPr/>
          <p:nvPr/>
        </p:nvGrpSpPr>
        <p:grpSpPr>
          <a:xfrm>
            <a:off x="237960" y="237960"/>
            <a:ext cx="11728080" cy="6388200"/>
            <a:chOff x="237960" y="237960"/>
            <a:chExt cx="11728080" cy="6388200"/>
          </a:xfrm>
        </p:grpSpPr>
        <p:pic>
          <p:nvPicPr>
            <p:cNvPr id="512" name="Rectangle 6" descr=""/>
            <p:cNvPicPr/>
            <p:nvPr/>
          </p:nvPicPr>
          <p:blipFill>
            <a:blip r:embed="rId2"/>
            <a:stretch/>
          </p:blipFill>
          <p:spPr>
            <a:xfrm>
              <a:off x="240480" y="237960"/>
              <a:ext cx="11725560" cy="63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237960" y="237960"/>
              <a:ext cx="11719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14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solidFill>
            <a:srgbClr val="bac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DF87C-9779-4A89-886A-87F583155C49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Rectangle 15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46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8" name="Rectangle 9"/>
          <p:cNvGrpSpPr/>
          <p:nvPr/>
        </p:nvGrpSpPr>
        <p:grpSpPr>
          <a:xfrm>
            <a:off x="1243080" y="1200240"/>
            <a:ext cx="9710640" cy="4451400"/>
            <a:chOff x="1243080" y="1200240"/>
            <a:chExt cx="9710640" cy="4451400"/>
          </a:xfrm>
        </p:grpSpPr>
        <p:pic>
          <p:nvPicPr>
            <p:cNvPr id="49" name="Rectangle 9" descr=""/>
            <p:cNvPicPr/>
            <p:nvPr/>
          </p:nvPicPr>
          <p:blipFill>
            <a:blip r:embed="rId3"/>
            <a:stretch/>
          </p:blipFill>
          <p:spPr>
            <a:xfrm>
              <a:off x="1243080" y="1200240"/>
              <a:ext cx="9710640" cy="44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1" name="Rectangle 10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549e39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54" name="Straight Connector 16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5" name="Straight Connector 17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6" name="Straight Connector 18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5317920" y="1341360"/>
            <a:ext cx="15555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1454040" y="5211360"/>
            <a:ext cx="5905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607600" y="5211360"/>
            <a:ext cx="2111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A64AC-D5FD-4169-80DD-74BE004FB82E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Rectangle 6"/>
          <p:cNvGrpSpPr/>
          <p:nvPr/>
        </p:nvGrpSpPr>
        <p:grpSpPr>
          <a:xfrm>
            <a:off x="237960" y="237960"/>
            <a:ext cx="11728080" cy="6388200"/>
            <a:chOff x="237960" y="237960"/>
            <a:chExt cx="11728080" cy="6388200"/>
          </a:xfrm>
        </p:grpSpPr>
        <p:pic>
          <p:nvPicPr>
            <p:cNvPr id="99" name="Rectangle 6" descr=""/>
            <p:cNvPicPr/>
            <p:nvPr/>
          </p:nvPicPr>
          <p:blipFill>
            <a:blip r:embed="rId2"/>
            <a:stretch/>
          </p:blipFill>
          <p:spPr>
            <a:xfrm>
              <a:off x="240480" y="237960"/>
              <a:ext cx="11725560" cy="63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37960" y="237960"/>
              <a:ext cx="11719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1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solidFill>
            <a:srgbClr val="bac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CC48A-380A-46CF-B80A-473078A80C6E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18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144" name="Rectangle 1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46" name="Rectangle 22"/>
          <p:cNvGrpSpPr/>
          <p:nvPr/>
        </p:nvGrpSpPr>
        <p:grpSpPr>
          <a:xfrm>
            <a:off x="1243080" y="1200240"/>
            <a:ext cx="9710640" cy="4451400"/>
            <a:chOff x="1243080" y="1200240"/>
            <a:chExt cx="9710640" cy="4451400"/>
          </a:xfrm>
        </p:grpSpPr>
        <p:pic>
          <p:nvPicPr>
            <p:cNvPr id="147" name="Rectangle 22" descr=""/>
            <p:cNvPicPr/>
            <p:nvPr/>
          </p:nvPicPr>
          <p:blipFill>
            <a:blip r:embed="rId3"/>
            <a:stretch/>
          </p:blipFill>
          <p:spPr>
            <a:xfrm>
              <a:off x="1243080" y="1200240"/>
              <a:ext cx="9710640" cy="44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Rectangle 23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Rectangle 29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549e39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51" name="Group 30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152" name="Straight Connector 31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53" name="Straight Connector 32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54" name="Straight Connector 33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5321160" y="1344240"/>
            <a:ext cx="15559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1453680" y="5211360"/>
            <a:ext cx="5907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8604000" y="5211360"/>
            <a:ext cx="2112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B53DD-59E3-4466-BBEE-B07BB1D9B5CA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Rectangle 6"/>
          <p:cNvGrpSpPr/>
          <p:nvPr/>
        </p:nvGrpSpPr>
        <p:grpSpPr>
          <a:xfrm>
            <a:off x="237960" y="237960"/>
            <a:ext cx="11728080" cy="6388200"/>
            <a:chOff x="237960" y="237960"/>
            <a:chExt cx="11728080" cy="6388200"/>
          </a:xfrm>
        </p:grpSpPr>
        <p:pic>
          <p:nvPicPr>
            <p:cNvPr id="197" name="Rectangle 6" descr=""/>
            <p:cNvPicPr/>
            <p:nvPr/>
          </p:nvPicPr>
          <p:blipFill>
            <a:blip r:embed="rId2"/>
            <a:stretch/>
          </p:blipFill>
          <p:spPr>
            <a:xfrm>
              <a:off x="240480" y="237960"/>
              <a:ext cx="11725560" cy="63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37960" y="237960"/>
              <a:ext cx="11719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9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solidFill>
            <a:srgbClr val="bac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CA4B9-A511-4C6E-A7DD-6B4872B6D675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Rectangle 6"/>
          <p:cNvGrpSpPr/>
          <p:nvPr/>
        </p:nvGrpSpPr>
        <p:grpSpPr>
          <a:xfrm>
            <a:off x="237960" y="237960"/>
            <a:ext cx="11728080" cy="6388200"/>
            <a:chOff x="237960" y="237960"/>
            <a:chExt cx="11728080" cy="6388200"/>
          </a:xfrm>
        </p:grpSpPr>
        <p:pic>
          <p:nvPicPr>
            <p:cNvPr id="242" name="Rectangle 6" descr=""/>
            <p:cNvPicPr/>
            <p:nvPr/>
          </p:nvPicPr>
          <p:blipFill>
            <a:blip r:embed="rId2"/>
            <a:stretch/>
          </p:blipFill>
          <p:spPr>
            <a:xfrm>
              <a:off x="240480" y="237960"/>
              <a:ext cx="11725560" cy="63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37960" y="237960"/>
              <a:ext cx="11719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44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solidFill>
            <a:srgbClr val="bac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3185A-C4E9-4AD1-A832-EA61201F9BAC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Rectangle 6"/>
          <p:cNvGrpSpPr/>
          <p:nvPr/>
        </p:nvGrpSpPr>
        <p:grpSpPr>
          <a:xfrm>
            <a:off x="237960" y="237960"/>
            <a:ext cx="11728080" cy="6388200"/>
            <a:chOff x="237960" y="237960"/>
            <a:chExt cx="11728080" cy="6388200"/>
          </a:xfrm>
        </p:grpSpPr>
        <p:pic>
          <p:nvPicPr>
            <p:cNvPr id="287" name="Rectangle 6" descr=""/>
            <p:cNvPicPr/>
            <p:nvPr/>
          </p:nvPicPr>
          <p:blipFill>
            <a:blip r:embed="rId2"/>
            <a:stretch/>
          </p:blipFill>
          <p:spPr>
            <a:xfrm>
              <a:off x="240480" y="237960"/>
              <a:ext cx="11725560" cy="63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37960" y="237960"/>
              <a:ext cx="11719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89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solidFill>
            <a:srgbClr val="bac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8EE2B-DE36-49E2-A09C-B21017D548E8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Rectangle 6"/>
          <p:cNvGrpSpPr/>
          <p:nvPr/>
        </p:nvGrpSpPr>
        <p:grpSpPr>
          <a:xfrm>
            <a:off x="237960" y="237960"/>
            <a:ext cx="11728080" cy="6388200"/>
            <a:chOff x="237960" y="237960"/>
            <a:chExt cx="11728080" cy="6388200"/>
          </a:xfrm>
        </p:grpSpPr>
        <p:pic>
          <p:nvPicPr>
            <p:cNvPr id="332" name="Rectangle 6" descr=""/>
            <p:cNvPicPr/>
            <p:nvPr/>
          </p:nvPicPr>
          <p:blipFill>
            <a:blip r:embed="rId2"/>
            <a:stretch/>
          </p:blipFill>
          <p:spPr>
            <a:xfrm>
              <a:off x="240480" y="237960"/>
              <a:ext cx="11725560" cy="63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237960" y="237960"/>
              <a:ext cx="11719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34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solidFill>
            <a:srgbClr val="bace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0D2BF-7767-4750-B95C-E9B5BD4994A5}" type="slidenum"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13"/>
          <p:cNvGrpSpPr/>
          <p:nvPr/>
        </p:nvGrpSpPr>
        <p:grpSpPr>
          <a:xfrm>
            <a:off x="231840" y="237960"/>
            <a:ext cx="8643960" cy="6388200"/>
            <a:chOff x="231840" y="237960"/>
            <a:chExt cx="8643960" cy="6388200"/>
          </a:xfrm>
        </p:grpSpPr>
        <p:pic>
          <p:nvPicPr>
            <p:cNvPr id="377" name="Rectangle 13" descr=""/>
            <p:cNvPicPr/>
            <p:nvPr/>
          </p:nvPicPr>
          <p:blipFill>
            <a:blip r:embed="rId2"/>
            <a:stretch/>
          </p:blipFill>
          <p:spPr>
            <a:xfrm>
              <a:off x="231840" y="237960"/>
              <a:ext cx="8643960" cy="638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35080" y="237960"/>
              <a:ext cx="863280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79" name="Rectangle 15"/>
          <p:cNvSpPr/>
          <p:nvPr/>
        </p:nvSpPr>
        <p:spPr>
          <a:xfrm>
            <a:off x="371520" y="374760"/>
            <a:ext cx="8353440" cy="6108480"/>
          </a:xfrm>
          <a:prstGeom prst="rect">
            <a:avLst/>
          </a:prstGeom>
          <a:solidFill>
            <a:srgbClr val="455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Rectangle 14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c2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3438000" y="6215040"/>
            <a:ext cx="518508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10348560" y="6215040"/>
            <a:ext cx="14619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55f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F6A9D-753C-4F04-B0FA-D19CE6B224BC}" type="slidenum">
              <a:rPr b="0" lang="en-US" sz="1000" spc="-1" strike="noStrike">
                <a:solidFill>
                  <a:srgbClr val="455f5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61680" y="2090880"/>
            <a:ext cx="906804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fffff"/>
                </a:solidFill>
                <a:latin typeface="Century Gothic"/>
                <a:ea typeface="ＭＳ ゴシック"/>
              </a:rPr>
              <a:t>けやき市</a:t>
            </a:r>
            <a:br>
              <a:rPr sz="5400"/>
            </a:br>
            <a:r>
              <a:rPr b="0" lang="ja-JP" sz="5400" spc="-1" strike="noStrike">
                <a:solidFill>
                  <a:srgbClr val="ffffff"/>
                </a:solidFill>
                <a:latin typeface="Century Gothic"/>
                <a:ea typeface="ＭＳ ゴシック"/>
              </a:rPr>
              <a:t>地産地消ネットワーク</a:t>
            </a:r>
            <a:endParaRPr b="0" lang="en-US" sz="54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561680" y="4681440"/>
            <a:ext cx="90709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e3ded1"/>
                </a:solidFill>
                <a:latin typeface="Century Gothic"/>
                <a:ea typeface="ＭＳ ゴシック"/>
              </a:rPr>
              <a:t>食でつながる消費者と生産者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地産地消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066680" y="1787040"/>
            <a:ext cx="40752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「地産地消」とは？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地域で生産されたものを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その地域で消費すること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地産地消のメリット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消費者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新鮮で旬の食材を入手できる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食への理解を深めることができる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生産者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消費者のニーズを把握できる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流通コストを削減できる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0" name="下矢印 3"/>
          <p:cNvSpPr/>
          <p:nvPr/>
        </p:nvSpPr>
        <p:spPr>
          <a:xfrm rot="16200000">
            <a:off x="5011920" y="2916000"/>
            <a:ext cx="2625480" cy="1307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cf3a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角丸四角形 4"/>
          <p:cNvSpPr/>
          <p:nvPr/>
        </p:nvSpPr>
        <p:spPr>
          <a:xfrm>
            <a:off x="7507440" y="3911760"/>
            <a:ext cx="3617640" cy="866520"/>
          </a:xfrm>
          <a:prstGeom prst="roundRect">
            <a:avLst>
              <a:gd name="adj" fmla="val 16667"/>
            </a:avLst>
          </a:prstGeom>
          <a:solidFill>
            <a:srgbClr val="549e39"/>
          </a:solidFill>
          <a:ln w="12600">
            <a:solidFill>
              <a:srgbClr val="3b7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Century Gothic"/>
                <a:ea typeface="ＭＳ ゴシック"/>
              </a:rPr>
              <a:t>地域の活性化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角丸四角形 5"/>
          <p:cNvSpPr/>
          <p:nvPr/>
        </p:nvSpPr>
        <p:spPr>
          <a:xfrm>
            <a:off x="7507440" y="2290680"/>
            <a:ext cx="3617640" cy="866880"/>
          </a:xfrm>
          <a:prstGeom prst="roundRect">
            <a:avLst>
              <a:gd name="adj" fmla="val 16667"/>
            </a:avLst>
          </a:prstGeom>
          <a:solidFill>
            <a:srgbClr val="549e39"/>
          </a:solidFill>
          <a:ln w="12600">
            <a:solidFill>
              <a:srgbClr val="3b7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Century Gothic"/>
                <a:ea typeface="ＭＳ ゴシック"/>
              </a:rPr>
              <a:t>生産者と消費者の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Century Gothic"/>
                <a:ea typeface="ＭＳ ゴシック"/>
              </a:rPr>
              <a:t>信頼関係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けやき市地産地消ネットワーク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066680" y="1787040"/>
            <a:ext cx="10058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「けやき市地産地消ネットワーク」とは？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けやき市の地産地消を活性化させるため、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2010</a:t>
            </a: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年に設立された組織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誰がやっているの？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生産者、消費者、製造業者、流通業者、飲食店など、組織の趣旨に賛同し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入会した会員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趣旨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消費者が安全な食材を入手できるようにする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消費者と生産者の交流をサポートする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 Gothic"/>
                <a:ea typeface="ＭＳ ゴシック"/>
              </a:rPr>
              <a:t>地場物産品の消費を促進する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消費者と生産者のつながり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pic>
        <p:nvPicPr>
          <p:cNvPr id="566" name="コンテンツ プレースホルダー 5" descr=""/>
          <p:cNvPicPr/>
          <p:nvPr/>
        </p:nvPicPr>
        <p:blipFill>
          <a:blip r:embed="rId1"/>
          <a:stretch/>
        </p:blipFill>
        <p:spPr>
          <a:xfrm>
            <a:off x="1066680" y="2097000"/>
            <a:ext cx="10058400" cy="3743280"/>
          </a:xfrm>
          <a:prstGeom prst="rect">
            <a:avLst/>
          </a:prstGeom>
          <a:ln w="0">
            <a:noFill/>
          </a:ln>
        </p:spPr>
      </p:pic>
      <p:sp>
        <p:nvSpPr>
          <p:cNvPr id="567" name="テキスト ボックス 6"/>
          <p:cNvSpPr/>
          <p:nvPr/>
        </p:nvSpPr>
        <p:spPr>
          <a:xfrm>
            <a:off x="7257960" y="3357720"/>
            <a:ext cx="2322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信頼関係の構築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ニーズの把握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4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（農業体験などの交流）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8" name="テキスト ボックス 7"/>
          <p:cNvSpPr/>
          <p:nvPr/>
        </p:nvSpPr>
        <p:spPr>
          <a:xfrm>
            <a:off x="2611440" y="3463920"/>
            <a:ext cx="23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新鮮な食材の購入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販路の拡大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9" name="テキスト ボックス 8"/>
          <p:cNvSpPr/>
          <p:nvPr/>
        </p:nvSpPr>
        <p:spPr>
          <a:xfrm>
            <a:off x="4933800" y="5877000"/>
            <a:ext cx="23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流通コストの削減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おもな活動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pic>
        <p:nvPicPr>
          <p:cNvPr id="571" name="コンテンツ プレースホルダー 2" descr=""/>
          <p:cNvPicPr/>
          <p:nvPr/>
        </p:nvPicPr>
        <p:blipFill>
          <a:blip r:embed="rId1"/>
          <a:stretch/>
        </p:blipFill>
        <p:spPr>
          <a:xfrm>
            <a:off x="987480" y="1725480"/>
            <a:ext cx="1013760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443c29"/>
                </a:solidFill>
                <a:latin typeface="Century Gothic"/>
                <a:ea typeface="ＭＳ ゴシック"/>
              </a:rPr>
              <a:t>けやき市のおもな地場産品</a:t>
            </a:r>
            <a:endParaRPr b="0" lang="en-US" sz="3600" spc="-1" strike="noStrike">
              <a:solidFill>
                <a:srgbClr val="443c29"/>
              </a:solidFill>
              <a:latin typeface="Century Gothic"/>
            </a:endParaRPr>
          </a:p>
        </p:txBody>
      </p:sp>
      <p:pic>
        <p:nvPicPr>
          <p:cNvPr id="573" name="コンテンツ プレースホルダー 2" descr=""/>
          <p:cNvPicPr/>
          <p:nvPr/>
        </p:nvPicPr>
        <p:blipFill>
          <a:blip r:embed="rId1"/>
          <a:stretch/>
        </p:blipFill>
        <p:spPr>
          <a:xfrm>
            <a:off x="987480" y="1725480"/>
            <a:ext cx="1013760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2T23:53:32Z</dcterms:created>
  <dc:creator>Ken Ishikawa</dc:creator>
  <dc:description/>
  <dc:language>en-US</dc:language>
  <cp:lastModifiedBy>Ken Ishikawa</cp:lastModifiedBy>
  <dcterms:modified xsi:type="dcterms:W3CDTF">2014-12-17T05:04:55Z</dcterms:modified>
  <cp:revision>37</cp:revision>
  <dc:subject/>
  <dc:title>PowerPoint プレゼンテーション</dc:title>
</cp:coreProperties>
</file>