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CCA-E445-4DCE-A826-784DCE87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1A5-9A19-4DA2-B06E-8058DB5D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AA0-90FF-43DF-A4C4-4A70FFCC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FDB-B125-43C6-B97B-A54749DB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2875-AEC9-4EE6-A508-A4D4F7C6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010C-129C-4A9D-9937-2A18BCD0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26C3-2678-4776-9BCA-B99FFD32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6322-C488-4AB6-AE40-8DAC312A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6CB3-DDBE-4366-B10F-106966D9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723B-39AE-4A85-A662-A6CEF018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0585-3A90-42B5-A5F0-05047FB4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00C-C3F5-470E-B0A6-2BF1F716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C4BD-1D78-41F7-847D-515AD487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140E-87E6-43D1-A231-80431E2F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B121-A1BC-4B66-AFC0-7EAB2F0C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36E7-E46C-48C6-AFF4-076B8335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03E0-F8DA-40D4-AF82-13A7C95B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51AD5-15AA-4A9A-93DF-AFC3233C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2376-DA8C-466C-AB92-4CBF3EEC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71C7B-E1BF-4B72-9274-4C3DC485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2C43-3D58-4A72-829C-5E82759B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B6BE6-D0E2-457E-9E8B-38CEC2D6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C500-458A-4530-9B2C-BD720ECA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B048D-6D29-4352-BD02-9898AFE2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E4AC-94C7-4A69-904B-04A4A9F5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88722-FEFA-429F-B733-FCBF47EC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7F1BE-27DE-425B-B1E0-13FDE35F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7BE5C-3850-4B4E-AB35-DE448DD2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10D60-1928-47DD-85B4-3CFA2E32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CCF4-A5EB-42B9-A709-CCB22772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26F9B-A2CE-44C5-B9D9-E3EA52D7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1F0DE-398F-48F8-8C50-D249FA52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19FE9-3504-4355-BA73-FF8B63BF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35F-FF0C-46BD-A4A2-04F5F610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11B43-C852-46DB-9388-9C3542B0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96083-A831-4DDA-BA58-79F22889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48E1C-7172-4D16-8FD2-BC5049F4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589F5-7867-4C61-9E2C-B8707246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7FC10-D678-4D84-9ABD-39D0D13C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63018-0A87-4F79-8980-7BA8B37F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C4549-2DDB-43D9-B0A8-FFA9E246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90D31-9C97-4961-B605-F62A03A3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9F5B2-A4FB-41E5-AC45-A6B0096D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19F2D-D6EB-49E6-93BE-7E71FBCB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6C4-21F1-47AF-8EA2-926FAAD1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1979E-50B3-4966-84E1-5DC8F2EB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4CBC8-50AD-4F0D-A479-0CDDD8FF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40CD5-19CB-42C7-A5E3-39D9259B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1F22E-7FDB-4B81-AB02-99706DF8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2DB7F-FB3D-49F0-82BD-C1580D08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2BD8-ECBF-48A4-A7EE-947715FB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05D99-210F-45B8-B533-2AA543A2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B515-82FD-48F7-9F92-AEDC0085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BB0DB-AE64-4726-87B4-6217CF4A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0530C-279F-44B9-B88E-AF3B8793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DBB-40EF-4F05-A702-5C90FE3F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E2EAF-ABA0-4F98-8A5B-DC22D645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5A193-C760-4029-B319-B8972EA8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E825B-E41D-44DA-80CC-6D7BB710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AE194-7BAC-4B8C-9521-976D04E0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61F61-A20E-487E-B57C-4DC5963E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C770C-AB1C-446D-A47B-A00E2409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C8259-4B72-4A01-9CFB-E6D91671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2B1AF-BB39-4318-B0E2-D94D42EE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2447B-21AF-4067-BF48-E5A5FDB4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BB397-B5C1-4F47-B194-C69FF9DE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701-7F92-471C-BD6E-50C351C0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27DBE-B645-44DD-B604-DF911DB7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00D84-0E15-4A2C-9BD2-504BAB86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D1A6D-2518-4212-A3B4-7E724835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350F7-E803-4A2E-A71E-0C12BC78E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DB15B-E85E-4D5B-96BA-7A401CD5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F2181-D1FE-49D9-B8A1-C6A03AF9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493D5-F64D-42A4-83BF-C29C2221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F5385-ED70-424F-A579-4A100E43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118B0-748C-4A71-9248-1B169803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A5A9F-9402-4AA2-BE20-FD5A9336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13C-865D-4C31-A07C-9B2D7443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93290-FFB9-4EA3-A6E2-8DDC27E4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2A101-5175-4C15-9DFF-3EB56979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89AD7-0F48-49FE-913C-628FEBCD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0BCE1-1766-4709-BCE1-4946FB7E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EB3D1-E7A3-45C2-A117-15CBF7B1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7E002-EF27-470E-BF00-58A9AB04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6AA79-03D8-4ABD-A2BD-605D9DA1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34DED-04B6-4341-9012-C2BABCF7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7DB02-7CB2-4998-BD45-D04DCD16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4C20A-CBEB-48DE-8233-82009F9A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C1D-7F42-47D8-A9B7-DD0487A6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C4803-3556-4A2B-B83F-0C840079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B604D-03A3-49A2-9CD0-F24CFAAB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0C1AA-F015-4196-916B-812600A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9B1EA-B9D1-4A69-B9A9-DB3BD4B2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2BDDD-9DB3-4452-A94C-C8BC4042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FB0B5-8411-4F80-BC92-3742F32E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7BC17-F7CA-46C8-B09D-33820FF9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2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D3D0-F987-423B-89C3-B165BA8DE37E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6" name="Rectangle 20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7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9" name="Rectangle 13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10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2" name="Rectangle 15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13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5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16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8" name="Rectangle 17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19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1" name="Rectangle 18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22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4" name="Rectangle 19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25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7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28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traight Connector 31"/>
          <p:cNvSpPr/>
          <p:nvPr/>
        </p:nvSpPr>
        <p:spPr>
          <a:xfrm>
            <a:off x="0" y="3579840"/>
            <a:ext cx="9144000" cy="1440"/>
          </a:xfrm>
          <a:prstGeom prst="line">
            <a:avLst/>
          </a:prstGeom>
          <a:ln w="64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grpSp>
        <p:nvGrpSpPr>
          <p:cNvPr id="67" name="Group 22"/>
          <p:cNvGrpSpPr/>
          <p:nvPr/>
        </p:nvGrpSpPr>
        <p:grpSpPr>
          <a:xfrm>
            <a:off x="19080" y="6765840"/>
            <a:ext cx="9124920" cy="92160"/>
            <a:chOff x="19080" y="6765840"/>
            <a:chExt cx="9124920" cy="92160"/>
          </a:xfrm>
        </p:grpSpPr>
        <p:grpSp>
          <p:nvGrpSpPr>
            <p:cNvPr id="68" name="Rectangle 8"/>
            <p:cNvGrpSpPr/>
            <p:nvPr/>
          </p:nvGrpSpPr>
          <p:grpSpPr>
            <a:xfrm>
              <a:off x="19080" y="6774480"/>
              <a:ext cx="9124920" cy="39600"/>
              <a:chOff x="19080" y="6774480"/>
              <a:chExt cx="9124920" cy="39600"/>
            </a:xfrm>
          </p:grpSpPr>
          <p:pic>
            <p:nvPicPr>
              <p:cNvPr id="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9080" y="6774480"/>
                <a:ext cx="9124920" cy="3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rot="5400000">
                <a:off x="4574160" y="2243520"/>
                <a:ext cx="1476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71" name="Rectangle 9"/>
            <p:cNvGrpSpPr/>
            <p:nvPr/>
          </p:nvGrpSpPr>
          <p:grpSpPr>
            <a:xfrm>
              <a:off x="19080" y="6765840"/>
              <a:ext cx="9124920" cy="30600"/>
              <a:chOff x="19080" y="6765840"/>
              <a:chExt cx="9124920" cy="30600"/>
            </a:xfrm>
          </p:grpSpPr>
          <p:pic>
            <p:nvPicPr>
              <p:cNvPr id="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9080" y="6765840"/>
                <a:ext cx="9124920" cy="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 rot="5400000">
                <a:off x="4578120" y="2231640"/>
                <a:ext cx="720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74" name="Rectangle 10"/>
            <p:cNvGrpSpPr/>
            <p:nvPr/>
          </p:nvGrpSpPr>
          <p:grpSpPr>
            <a:xfrm>
              <a:off x="19080" y="6787800"/>
              <a:ext cx="9124920" cy="30600"/>
              <a:chOff x="19080" y="6787800"/>
              <a:chExt cx="9124920" cy="30600"/>
            </a:xfrm>
          </p:grpSpPr>
          <p:pic>
            <p:nvPicPr>
              <p:cNvPr id="75" name="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80" y="6787800"/>
                <a:ext cx="9124920" cy="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 rot="5400000">
                <a:off x="4578120" y="2253960"/>
                <a:ext cx="720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77" name="Rectangle 11"/>
            <p:cNvGrpSpPr/>
            <p:nvPr/>
          </p:nvGrpSpPr>
          <p:grpSpPr>
            <a:xfrm>
              <a:off x="19080" y="6805440"/>
              <a:ext cx="9124920" cy="26280"/>
              <a:chOff x="19080" y="6805440"/>
              <a:chExt cx="9124920" cy="26280"/>
            </a:xfrm>
          </p:grpSpPr>
          <p:pic>
            <p:nvPicPr>
              <p:cNvPr id="78" name="Rectangl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80" y="6805440"/>
                <a:ext cx="9124920" cy="2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 rot="5400000">
                <a:off x="4579560" y="2267280"/>
                <a:ext cx="432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80" name="Rectangle 12"/>
            <p:cNvGrpSpPr/>
            <p:nvPr/>
          </p:nvGrpSpPr>
          <p:grpSpPr>
            <a:xfrm>
              <a:off x="19080" y="6809760"/>
              <a:ext cx="9124920" cy="30600"/>
              <a:chOff x="19080" y="6809760"/>
              <a:chExt cx="9124920" cy="30600"/>
            </a:xfrm>
          </p:grpSpPr>
          <p:pic>
            <p:nvPicPr>
              <p:cNvPr id="81" name="Rectangl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80" y="6809760"/>
                <a:ext cx="9124920" cy="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rot="5400000">
                <a:off x="4578120" y="2275920"/>
                <a:ext cx="720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83" name="Rectangle 13"/>
            <p:cNvGrpSpPr/>
            <p:nvPr/>
          </p:nvGrpSpPr>
          <p:grpSpPr>
            <a:xfrm>
              <a:off x="19080" y="6818400"/>
              <a:ext cx="9124920" cy="30600"/>
              <a:chOff x="19080" y="6818400"/>
              <a:chExt cx="9124920" cy="30600"/>
            </a:xfrm>
          </p:grpSpPr>
          <p:pic>
            <p:nvPicPr>
              <p:cNvPr id="84" name="Rectangl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19080" y="6818400"/>
                <a:ext cx="9124920" cy="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 rot="5400000">
                <a:off x="4578120" y="2283120"/>
                <a:ext cx="720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86" name="Rectangle 14"/>
            <p:cNvGrpSpPr/>
            <p:nvPr/>
          </p:nvGrpSpPr>
          <p:grpSpPr>
            <a:xfrm>
              <a:off x="19080" y="6827400"/>
              <a:ext cx="9124920" cy="30600"/>
              <a:chOff x="19080" y="6827400"/>
              <a:chExt cx="9124920" cy="30600"/>
            </a:xfrm>
          </p:grpSpPr>
          <p:pic>
            <p:nvPicPr>
              <p:cNvPr id="8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9080" y="6827400"/>
                <a:ext cx="9124920" cy="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 rot="5400000">
                <a:off x="4578120" y="2290680"/>
                <a:ext cx="720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89" name="Rectangle 15"/>
            <p:cNvGrpSpPr/>
            <p:nvPr/>
          </p:nvGrpSpPr>
          <p:grpSpPr>
            <a:xfrm>
              <a:off x="19080" y="6783120"/>
              <a:ext cx="9124920" cy="26280"/>
              <a:chOff x="19080" y="6783120"/>
              <a:chExt cx="9124920" cy="26280"/>
            </a:xfrm>
          </p:grpSpPr>
          <p:pic>
            <p:nvPicPr>
              <p:cNvPr id="90" name="Rectangle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080" y="6783120"/>
                <a:ext cx="9124920" cy="2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 rot="5400000">
                <a:off x="4578120" y="2246040"/>
                <a:ext cx="7200" cy="9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68544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552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327720" y="6508800"/>
            <a:ext cx="2130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80FA-EFDA-4C81-92F2-DA033CE4C446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134" name="Rectangle 20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135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37" name="Rectangle 13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138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40" name="Rectangle 15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141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43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144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46" name="Rectangle 17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147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49" name="Rectangle 18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150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52" name="Rectangle 19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153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155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156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158" name="Straight Connector 6"/>
          <p:cNvSpPr/>
          <p:nvPr/>
        </p:nvSpPr>
        <p:spPr>
          <a:xfrm>
            <a:off x="1322280" y="4419720"/>
            <a:ext cx="7315200" cy="1440"/>
          </a:xfrm>
          <a:prstGeom prst="line">
            <a:avLst/>
          </a:prstGeom>
          <a:ln w="64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9555-B7E7-4FF0-A123-599F1AF06F75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201" name="Rectangle 20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202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04" name="Rectangle 13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205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07" name="Rectangle 15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208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10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211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13" name="Rectangle 17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214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16" name="Rectangle 18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217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19" name="Rectangle 19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220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22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223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225" name="Straight Connector 9"/>
          <p:cNvSpPr/>
          <p:nvPr/>
        </p:nvSpPr>
        <p:spPr>
          <a:xfrm>
            <a:off x="1295280" y="2298600"/>
            <a:ext cx="7239240" cy="1800"/>
          </a:xfrm>
          <a:prstGeom prst="line">
            <a:avLst/>
          </a:prstGeom>
          <a:ln w="64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364A-A291-42C0-99A4-BBBCE5A77853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268" name="Rectangle 6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269" name="Rectangl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71" name="Rectangle 7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272" name="Rectangl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74" name="Rectangle 8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275" name="Rectangl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77" name="Rectangle 9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278" name="Rectangle 9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80" name="Rectangle 10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281" name="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83" name="Rectangle 11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284" name="Rectangle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86" name="Rectangle 12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287" name="Rectangle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289" name="Rectangle 13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290" name="Rectangle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3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4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5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CDCD-DC9C-4981-837E-64502AC800F3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334" name="Rectangle 5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335" name="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37" name="Rectangle 6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338" name="Rectangl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40" name="Rectangle 7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341" name="Rectangl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43" name="Rectangle 8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344" name="Rectangl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46" name="Rectangle 9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347" name="Rectangl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49" name="Rectangle 10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350" name="Rectangl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52" name="Rectangle 11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353" name="Rectangl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355" name="Rectangle 12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356" name="Rectangle 12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6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7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8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D3B4-5FCA-4A3C-9D36-FE1B5061387F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400" name="Rectangle 20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401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03" name="Rectangle 13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40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06" name="Rectangle 15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407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09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410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12" name="Rectangle 17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413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15" name="Rectangle 18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416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18" name="Rectangle 19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419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21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422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424" name="Straight Connector 7"/>
          <p:cNvSpPr/>
          <p:nvPr/>
        </p:nvSpPr>
        <p:spPr>
          <a:xfrm flipV="1">
            <a:off x="3657600" y="1676160"/>
            <a:ext cx="1440" cy="4452840"/>
          </a:xfrm>
          <a:prstGeom prst="line">
            <a:avLst/>
          </a:prstGeom>
          <a:ln w="64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C879-C88A-4A08-AB74-B60858A12A48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467" name="Rectangle 20"/>
            <p:cNvGrpSpPr/>
            <p:nvPr/>
          </p:nvGrpSpPr>
          <p:grpSpPr>
            <a:xfrm>
              <a:off x="20880" y="5760"/>
              <a:ext cx="62640" cy="6852240"/>
              <a:chOff x="20880" y="5760"/>
              <a:chExt cx="62640" cy="6852240"/>
            </a:xfrm>
          </p:grpSpPr>
          <p:pic>
            <p:nvPicPr>
              <p:cNvPr id="468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5760"/>
                <a:ext cx="6264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34200" y="17640"/>
                <a:ext cx="3492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70" name="Rectangle 13"/>
            <p:cNvGrpSpPr/>
            <p:nvPr/>
          </p:nvGrpSpPr>
          <p:grpSpPr>
            <a:xfrm>
              <a:off x="0" y="0"/>
              <a:ext cx="46800" cy="6858000"/>
              <a:chOff x="0" y="0"/>
              <a:chExt cx="46800" cy="6858000"/>
            </a:xfrm>
          </p:grpSpPr>
          <p:pic>
            <p:nvPicPr>
              <p:cNvPr id="471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73" name="Rectangle 15"/>
            <p:cNvGrpSpPr/>
            <p:nvPr/>
          </p:nvGrpSpPr>
          <p:grpSpPr>
            <a:xfrm>
              <a:off x="52200" y="5760"/>
              <a:ext cx="46800" cy="6852240"/>
              <a:chOff x="52200" y="5760"/>
              <a:chExt cx="46800" cy="6852240"/>
            </a:xfrm>
          </p:grpSpPr>
          <p:pic>
            <p:nvPicPr>
              <p:cNvPr id="474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676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76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477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79" name="Rectangle 17"/>
            <p:cNvGrpSpPr/>
            <p:nvPr/>
          </p:nvGrpSpPr>
          <p:grpSpPr>
            <a:xfrm>
              <a:off x="104400" y="5760"/>
              <a:ext cx="46800" cy="6852240"/>
              <a:chOff x="104400" y="5760"/>
              <a:chExt cx="46800" cy="6852240"/>
            </a:xfrm>
          </p:grpSpPr>
          <p:pic>
            <p:nvPicPr>
              <p:cNvPr id="480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5760"/>
                <a:ext cx="4680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11988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82" name="Rectangle 18"/>
            <p:cNvGrpSpPr/>
            <p:nvPr/>
          </p:nvGrpSpPr>
          <p:grpSpPr>
            <a:xfrm>
              <a:off x="125280" y="5760"/>
              <a:ext cx="41760" cy="6852240"/>
              <a:chOff x="125280" y="5760"/>
              <a:chExt cx="41760" cy="6852240"/>
            </a:xfrm>
          </p:grpSpPr>
          <p:pic>
            <p:nvPicPr>
              <p:cNvPr id="483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528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13716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85" name="Rectangle 19"/>
            <p:cNvGrpSpPr/>
            <p:nvPr/>
          </p:nvGrpSpPr>
          <p:grpSpPr>
            <a:xfrm>
              <a:off x="140760" y="5760"/>
              <a:ext cx="41760" cy="6852240"/>
              <a:chOff x="140760" y="5760"/>
              <a:chExt cx="41760" cy="6852240"/>
            </a:xfrm>
          </p:grpSpPr>
          <p:pic>
            <p:nvPicPr>
              <p:cNvPr id="486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5760"/>
                <a:ext cx="41760" cy="685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154440" y="17640"/>
                <a:ext cx="17280" cy="68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  <p:grpSp>
          <p:nvGrpSpPr>
            <p:cNvPr id="488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489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Console"/>
                </a:endParaRPr>
              </a:p>
            </p:txBody>
          </p:sp>
        </p:grpSp>
      </p:grpSp>
      <p:sp>
        <p:nvSpPr>
          <p:cNvPr id="491" name="Straight Connector 7"/>
          <p:cNvSpPr/>
          <p:nvPr/>
        </p:nvSpPr>
        <p:spPr>
          <a:xfrm flipV="1">
            <a:off x="3657600" y="1676160"/>
            <a:ext cx="1440" cy="4452840"/>
          </a:xfrm>
          <a:prstGeom prst="line">
            <a:avLst/>
          </a:prstGeom>
          <a:ln w="64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842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2" marL="7128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3" marL="941400" indent="-22860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4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5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6" marL="1170000" indent="-22860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22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23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Consol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24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9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D465-6AEF-4029-90B0-5C7FE509F050}" type="slidenum">
              <a:rPr b="1" lang="ja-JP" sz="9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タイトル 1" descr=""/>
          <p:cNvPicPr/>
          <p:nvPr/>
        </p:nvPicPr>
        <p:blipFill>
          <a:blip r:embed="rId1"/>
          <a:stretch/>
        </p:blipFill>
        <p:spPr>
          <a:xfrm>
            <a:off x="669960" y="2114640"/>
            <a:ext cx="7804080" cy="1403280"/>
          </a:xfrm>
          <a:prstGeom prst="rect">
            <a:avLst/>
          </a:prstGeom>
          <a:ln w="0">
            <a:noFill/>
          </a:ln>
        </p:spPr>
      </p:pic>
      <p:grpSp>
        <p:nvGrpSpPr>
          <p:cNvPr id="534" name="サブタイトル 2"/>
          <p:cNvGrpSpPr/>
          <p:nvPr/>
        </p:nvGrpSpPr>
        <p:grpSpPr>
          <a:xfrm>
            <a:off x="669960" y="3638520"/>
            <a:ext cx="7804080" cy="1403280"/>
            <a:chOff x="669960" y="3638520"/>
            <a:chExt cx="7804080" cy="1403280"/>
          </a:xfrm>
        </p:grpSpPr>
        <p:pic>
          <p:nvPicPr>
            <p:cNvPr id="535" name="サブタイトル 2" descr=""/>
            <p:cNvPicPr/>
            <p:nvPr/>
          </p:nvPicPr>
          <p:blipFill>
            <a:blip r:embed="rId2"/>
            <a:stretch/>
          </p:blipFill>
          <p:spPr>
            <a:xfrm>
              <a:off x="669960" y="3638520"/>
              <a:ext cx="78040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685800" y="365760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t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98989"/>
                  </a:solidFill>
                  <a:latin typeface="Lucida Console"/>
                </a:rPr>
                <a:t>ABC</a:t>
              </a:r>
              <a:r>
                <a:rPr b="0" lang="ja-JP" sz="2000" spc="-1" strike="noStrike">
                  <a:solidFill>
                    <a:srgbClr val="898989"/>
                  </a:solidFill>
                  <a:latin typeface="Lucida Console"/>
                </a:rPr>
                <a:t>トラベル株式会社</a:t>
              </a:r>
              <a:endParaRPr b="0" lang="en-US" sz="20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pic>
        <p:nvPicPr>
          <p:cNvPr id="537" name="図 4" descr=""/>
          <p:cNvPicPr/>
          <p:nvPr/>
        </p:nvPicPr>
        <p:blipFill>
          <a:blip r:embed="rId3"/>
          <a:stretch/>
        </p:blipFill>
        <p:spPr>
          <a:xfrm>
            <a:off x="7559640" y="720720"/>
            <a:ext cx="1006560" cy="1976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12152 C -0.00694 -0.12963 -0.02101 -0.1375 -0.02587 -0.1375 C -0.05694 -0.1375 -0.08889 -0.0125 -0.08889 0.1125 C -0.08889 0.04954 -0.10486 -0.0125 -0.11996 -0.0125 C -0.13594 -0.0125 -0.15104 0.05047 -0.15104 0.1125 C -0.15104 0.08149 -0.15903 0.04954 -0.16701 0.04954 C -0.175 0.04954 -0.18299 0.08056 -0.18299 0.1125 C -0.18299 0.09653 -0.18698 0.08149 -0.19097 0.08149 C -0.19496 0.08149 -0.19896 0.09746 -0.19896 0.1125 C -0.19896 0.1044 -0.20104 0.09653 -0.20295 0.09653 C -0.20399 0.09653 -0.20694 0.10463 -0.20694 0.1125 C -0.20694 0.10857 -0.20799 0.1044 -0.20903 0.1044 C -0.20903 0.10348 -0.21111 0.10834 -0.21111 0.1125 C -0.21111 0.11042 -0.21111 0.10857 -0.21215 0.10857 C -0.21215 0.10949 -0.21319 0.11065 -0.21319 0.1125 C -0.21319 0.11158 -0.21319 0.11042 -0.21319 0.10949 C -0.21424 0.10949 -0.21424 0.11042 -0.21424 0.11158 C -0.21528 0.11158 -0.21528 0.11065 -0.21528 0.10949 C -0.21632 0.10949 -0.21632 0.11042 -0.21632 0.11158 E">
                                      <p:cBhvr>
                                        <p:cTn id="6" dur="6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906 -0.27246 C -0.33784 -0.27292 -0.32725 -0.27732 -0.32604 -0.27825 C -0.32152 -0.28172 -0.31805 -0.28774 -0.31302 -0.28982 C -0.29722 -0.29653 -0.28715 -0.29908 -0.26944 -0.3014 C -0.25729 -0.30672 -0.24479 -0.31065 -0.23246 -0.31575 C -0.21423 -0.33218 -0.19427 -0.32616 -0.1717 -0.32755 C -0.13142 -0.33635 -0.09705 -0.32917 -0.05434 -0.32755 C -0.05 -0.32547 -0.04548 -0.32362 -0.04114 -0.32153 C -0.03906 -0.32061 -0.0368 -0.31968 -0.03472 -0.31876 C -0.03246 -0.31783 -0.03038 -0.31667 -0.02812 -0.31575 C -0.02604 -0.31482 -0.0217 -0.31297 -0.0217 -0.31297 C -0.00798 -0.3007 -0.00521 -0.29538 0.00452 -0.27825 C 0.00764 -0.27269 0.0132 -0.26089 0.0132 -0.26089 C 0.01667 -0.24653 0.01806 -0.23172 0.02188 -0.21737 C 0.02691 -0.16899 0.02327 -0.11991 0.01528 -0.07246 C 0.01233 -0.0551 0.00799 -0.03727 0.00452 -0.02015 C -0.00017 0.00277 -3.05556E-006 -0.00973 -3.05556E-006 -5.55556E-006 E">
                                      <p:cBhvr>
                                        <p:cTn id="10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タイトル 1"/>
          <p:cNvGrpSpPr/>
          <p:nvPr/>
        </p:nvGrpSpPr>
        <p:grpSpPr>
          <a:xfrm>
            <a:off x="1163520" y="262080"/>
            <a:ext cx="7529760" cy="1170000"/>
            <a:chOff x="1163520" y="262080"/>
            <a:chExt cx="7529760" cy="1170000"/>
          </a:xfrm>
        </p:grpSpPr>
        <p:pic>
          <p:nvPicPr>
            <p:cNvPr id="539" name="タイトル 1" descr=""/>
            <p:cNvPicPr/>
            <p:nvPr/>
          </p:nvPicPr>
          <p:blipFill>
            <a:blip r:embed="rId1"/>
            <a:stretch/>
          </p:blipFill>
          <p:spPr>
            <a:xfrm>
              <a:off x="1163520" y="262080"/>
              <a:ext cx="75297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アンケート調査</a:t>
              </a: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(1)</a:t>
              </a:r>
              <a:br>
                <a:rPr sz="3200"/>
              </a:br>
              <a:r>
                <a:rPr b="0" lang="ja-JP" sz="32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海外旅行の目的は？</a:t>
              </a:r>
              <a:endParaRPr b="0" lang="en-US" sz="32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541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 fontScale="65000"/>
          </a:bodyPr>
          <a:p>
            <a:pPr marL="334080" indent="-334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Lucida Console"/>
              <a:buAutoNum type="arabicPeriod"/>
              <a:tabLst>
                <a:tab algn="r" pos="8639280"/>
                <a:tab algn="l" pos="9144000"/>
                <a:tab algn="l" pos="10058400"/>
              </a:tabLst>
            </a:pP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観光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33</a:t>
            </a: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％</a:t>
            </a:r>
            <a:endParaRPr b="0" lang="en-US" sz="3300" spc="-1" strike="noStrike">
              <a:solidFill>
                <a:srgbClr val="000000"/>
              </a:solidFill>
              <a:latin typeface="Lucida Console"/>
            </a:endParaRPr>
          </a:p>
          <a:p>
            <a:pPr marL="334080" indent="-334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Lucida Console"/>
              <a:buAutoNum type="arabicPeriod"/>
              <a:tabLst>
                <a:tab algn="r" pos="8639280"/>
                <a:tab algn="l" pos="9144000"/>
                <a:tab algn="l" pos="10058400"/>
              </a:tabLst>
            </a:pP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リフレッシュ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27</a:t>
            </a: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％</a:t>
            </a:r>
            <a:endParaRPr b="0" lang="en-US" sz="3300" spc="-1" strike="noStrike">
              <a:solidFill>
                <a:srgbClr val="000000"/>
              </a:solidFill>
              <a:latin typeface="Lucida Console"/>
            </a:endParaRPr>
          </a:p>
          <a:p>
            <a:pPr marL="334080" indent="-334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Lucida Console"/>
              <a:buAutoNum type="arabicPeriod"/>
              <a:tabLst>
                <a:tab algn="r" pos="8639280"/>
                <a:tab algn="l" pos="9144000"/>
                <a:tab algn="l" pos="10058400"/>
              </a:tabLst>
            </a:pP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食事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18</a:t>
            </a: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％</a:t>
            </a:r>
            <a:endParaRPr b="0" lang="en-US" sz="3300" spc="-1" strike="noStrike">
              <a:solidFill>
                <a:srgbClr val="000000"/>
              </a:solidFill>
              <a:latin typeface="Lucida Console"/>
            </a:endParaRPr>
          </a:p>
          <a:p>
            <a:pPr marL="334080" indent="-334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Lucida Console"/>
              <a:buAutoNum type="arabicPeriod"/>
              <a:tabLst>
                <a:tab algn="r" pos="8639280"/>
                <a:tab algn="l" pos="9144000"/>
                <a:tab algn="l" pos="10058400"/>
              </a:tabLst>
            </a:pP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ショッピング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7</a:t>
            </a: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％</a:t>
            </a:r>
            <a:endParaRPr b="0" lang="en-US" sz="3300" spc="-1" strike="noStrike">
              <a:solidFill>
                <a:srgbClr val="000000"/>
              </a:solidFill>
              <a:latin typeface="Lucida Console"/>
            </a:endParaRPr>
          </a:p>
          <a:p>
            <a:pPr marL="334080" indent="-334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Lucida Console"/>
              <a:buAutoNum type="arabicPeriod"/>
              <a:tabLst>
                <a:tab algn="r" pos="8639280"/>
                <a:tab algn="l" pos="9144000"/>
                <a:tab algn="l" pos="10058400"/>
              </a:tabLst>
            </a:pP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アクティビティ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5</a:t>
            </a: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％</a:t>
            </a:r>
            <a:endParaRPr b="0" lang="en-US" sz="3300" spc="-1" strike="noStrike">
              <a:solidFill>
                <a:srgbClr val="000000"/>
              </a:solidFill>
              <a:latin typeface="Lucida Console"/>
            </a:endParaRPr>
          </a:p>
          <a:p>
            <a:pPr marL="334080" indent="-334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0000"/>
              <a:buFont typeface="Lucida Console"/>
              <a:buAutoNum type="arabicPeriod"/>
              <a:tabLst>
                <a:tab algn="r" pos="8639280"/>
                <a:tab algn="l" pos="9144000"/>
                <a:tab algn="l" pos="10058400"/>
              </a:tabLst>
            </a:pP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その他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Lucida Console"/>
              </a:rPr>
              <a:t>10</a:t>
            </a:r>
            <a:r>
              <a:rPr b="0" lang="ja-JP" sz="3300" spc="-1" strike="noStrike">
                <a:solidFill>
                  <a:srgbClr val="000000"/>
                </a:solidFill>
                <a:latin typeface="Lucida Console"/>
              </a:rPr>
              <a:t>％</a:t>
            </a:r>
            <a:endParaRPr b="0" lang="en-US" sz="33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タイトル 1"/>
          <p:cNvGrpSpPr/>
          <p:nvPr/>
        </p:nvGrpSpPr>
        <p:grpSpPr>
          <a:xfrm>
            <a:off x="1163520" y="262080"/>
            <a:ext cx="7529760" cy="1170000"/>
            <a:chOff x="1163520" y="262080"/>
            <a:chExt cx="7529760" cy="1170000"/>
          </a:xfrm>
        </p:grpSpPr>
        <p:pic>
          <p:nvPicPr>
            <p:cNvPr id="543" name="タイトル 1" descr=""/>
            <p:cNvPicPr/>
            <p:nvPr/>
          </p:nvPicPr>
          <p:blipFill>
            <a:blip r:embed="rId1"/>
            <a:stretch/>
          </p:blipFill>
          <p:spPr>
            <a:xfrm>
              <a:off x="1163520" y="262080"/>
              <a:ext cx="75297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アンケート調査</a:t>
              </a: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(2)</a:t>
              </a:r>
              <a:br>
                <a:rPr sz="3200"/>
              </a:br>
              <a:r>
                <a:rPr b="0" lang="ja-JP" sz="32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海外旅行で行きたい地域は？</a:t>
              </a:r>
              <a:endParaRPr b="0" lang="en-US" sz="32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graphicFrame>
        <p:nvGraphicFramePr>
          <p:cNvPr id="545" name="コンテンツ プレースホルダー 3"/>
          <p:cNvGraphicFramePr/>
          <p:nvPr/>
        </p:nvGraphicFramePr>
        <p:xfrm>
          <a:off x="1216080" y="1633680"/>
          <a:ext cx="7427880" cy="4438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6" name="コンテンツ プレースホルダー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6080" y="1633680"/>
                    <a:ext cx="7427880" cy="44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タイトル 1"/>
          <p:cNvGrpSpPr/>
          <p:nvPr/>
        </p:nvGrpSpPr>
        <p:grpSpPr>
          <a:xfrm>
            <a:off x="1163520" y="262080"/>
            <a:ext cx="7529760" cy="1170000"/>
            <a:chOff x="1163520" y="262080"/>
            <a:chExt cx="7529760" cy="1170000"/>
          </a:xfrm>
        </p:grpSpPr>
        <p:pic>
          <p:nvPicPr>
            <p:cNvPr id="548" name="タイトル 1" descr=""/>
            <p:cNvPicPr/>
            <p:nvPr/>
          </p:nvPicPr>
          <p:blipFill>
            <a:blip r:embed="rId1"/>
            <a:stretch/>
          </p:blipFill>
          <p:spPr>
            <a:xfrm>
              <a:off x="1163520" y="262080"/>
              <a:ext cx="75297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バリ島の魅力</a:t>
              </a:r>
              <a:endParaRPr b="0" lang="en-US" sz="3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pic>
        <p:nvPicPr>
          <p:cNvPr id="550" name="コンテンツ プレースホルダー 3" descr=""/>
          <p:cNvPicPr/>
          <p:nvPr/>
        </p:nvPicPr>
        <p:blipFill>
          <a:blip r:embed="rId2"/>
          <a:stretch/>
        </p:blipFill>
        <p:spPr>
          <a:xfrm>
            <a:off x="1316160" y="1736640"/>
            <a:ext cx="722448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タイトル 1"/>
          <p:cNvGrpSpPr/>
          <p:nvPr/>
        </p:nvGrpSpPr>
        <p:grpSpPr>
          <a:xfrm>
            <a:off x="1163520" y="262080"/>
            <a:ext cx="7529760" cy="1170000"/>
            <a:chOff x="1163520" y="262080"/>
            <a:chExt cx="7529760" cy="1170000"/>
          </a:xfrm>
        </p:grpSpPr>
        <p:pic>
          <p:nvPicPr>
            <p:cNvPr id="552" name="タイトル 1" descr=""/>
            <p:cNvPicPr/>
            <p:nvPr/>
          </p:nvPicPr>
          <p:blipFill>
            <a:blip r:embed="rId1"/>
            <a:stretch/>
          </p:blipFill>
          <p:spPr>
            <a:xfrm>
              <a:off x="1163520" y="262080"/>
              <a:ext cx="752976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0000"/>
                  </a:solidFill>
                  <a:latin typeface="Lucida Sans Unicode"/>
                  <a:ea typeface="ＭＳ Ｐゴシック"/>
                </a:rPr>
                <a:t>ツアー＆オプショナルツアー</a:t>
              </a:r>
              <a:endParaRPr b="0" lang="en-US" sz="3600" spc="-1" strike="noStrike">
                <a:solidFill>
                  <a:srgbClr val="000000"/>
                </a:solidFill>
                <a:latin typeface="Lucida Console"/>
              </a:endParaRPr>
            </a:p>
          </p:txBody>
        </p:sp>
      </p:grpSp>
      <p:sp>
        <p:nvSpPr>
          <p:cNvPr id="554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 fontScale="99000"/>
          </a:bodyPr>
          <a:p>
            <a:pPr marL="252720" indent="-22608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Console"/>
              </a:rPr>
              <a:t>ツアー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479160" indent="-22608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観光満喫！バリ島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日間の旅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79160" indent="-22608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自然満喫！バリ島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日間の旅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79160" indent="-22608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ホテルでのんびり！バリ島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日間の旅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marL="252720" indent="-226080">
              <a:spcBef>
                <a:spcPts val="1500"/>
              </a:spcBef>
              <a:buClr>
                <a:srgbClr val="00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Console"/>
              </a:rPr>
              <a:t>オプショナルツアー</a:t>
            </a:r>
            <a:endParaRPr b="0" lang="en-US" sz="2400" spc="-1" strike="noStrike">
              <a:solidFill>
                <a:srgbClr val="000000"/>
              </a:solidFill>
              <a:latin typeface="Lucida Console"/>
            </a:endParaRPr>
          </a:p>
          <a:p>
            <a:pPr lvl="1" marL="479160" indent="-22608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ウブド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日観光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79160" indent="-22608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バリ島伝統芸能鑑賞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  <a:p>
            <a:pPr lvl="1" marL="479160" indent="-226080">
              <a:spcBef>
                <a:spcPts val="15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Console"/>
              </a:rPr>
              <a:t>市場めぐり</a:t>
            </a:r>
            <a:endParaRPr b="0" lang="en-US" sz="2000" spc="-1" strike="noStrike">
              <a:solidFill>
                <a:srgbClr val="000000"/>
              </a:solidFill>
              <a:latin typeface="Lucida Console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8:07:36Z</dcterms:created>
  <dc:creator>tanaka</dc:creator>
  <dc:description/>
  <dc:language>en-US</dc:language>
  <cp:lastModifiedBy>Ken Ishikawa</cp:lastModifiedBy>
  <dcterms:modified xsi:type="dcterms:W3CDTF">2014-12-17T05:50:57Z</dcterms:modified>
  <cp:revision>38</cp:revision>
  <dc:subject/>
  <dc:title>PowerPoint プレゼンテーション</dc:title>
</cp:coreProperties>
</file>